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2FD-09B2-4D1A-BFE8-4D960ADC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DC1-6324-44E5-A2C4-BDA15511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2C9-FA69-4AAF-B48A-4AD6BCF0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20F-B923-466F-9F13-99AAE2A6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E1BF-EFCE-4C13-A48F-5111CF3D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6D9C-CA23-413F-98B1-569057D7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2CEE-B7B5-4C59-A052-9A7AD5BF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CE5E-D194-4D6B-889C-220D526C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4054-4C33-4A03-96D8-6974BE72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B23B-7600-4254-9190-C44E9D71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5029-E685-4BA0-A724-4E41D034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B2C-6D4D-4F52-BCC7-C80BF4CB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FF6E-EB58-4AA9-BE74-A4EB9357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CA0A-EB8E-4346-91A4-B12E8114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FFBD-1EEF-4148-AF1B-1A28B483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4BB3-B292-45D6-A7D9-9511F630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6909-7B1C-476E-890D-62710EA2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DE3-D3D5-4FD3-BF9E-AB052739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B25-064D-4D04-9589-F13A0C76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B26-7C5F-4E41-90DD-C6B58136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CFB-53AF-4FB8-8EC2-94E584B8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0E0-72EC-4B0F-AF03-FD2F77D4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720-FB60-4821-AAA6-33D77628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4B9-9473-4582-BC3F-BE92EE34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AB85-77F1-498A-AD00-AF607A2EB0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D41D-CA86-4A31-A9AA-C75A73A207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Кто не помнит прошлого, тот живёт без будущего»</a:t>
            </a:r>
            <a:r>
              <a:rPr b="0" lang="ru-RU" sz="8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Энника-Аннели Выр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82296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d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Дом и предметы старинного быт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417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) Как и где строились избы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выбиралось место для строительства дома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) С чего начиналось строительство дома? Что считалось самым главным в доме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1116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5" name="Picture 11" descr="vi_21"/>
          <p:cNvPicPr/>
          <p:nvPr/>
        </p:nvPicPr>
        <p:blipFill>
          <a:blip r:embed="rId1"/>
          <a:stretch/>
        </p:blipFill>
        <p:spPr>
          <a:xfrm>
            <a:off x="5857920" y="428760"/>
            <a:ext cx="2914560" cy="2736720"/>
          </a:xfrm>
          <a:prstGeom prst="rect">
            <a:avLst/>
          </a:prstGeom>
          <a:ln w="54000">
            <a:solidFill>
              <a:srgbClr val="b8e7ff"/>
            </a:solidFill>
            <a:miter/>
          </a:ln>
        </p:spPr>
      </p:pic>
      <p:pic>
        <p:nvPicPr>
          <p:cNvPr id="126" name="Picture 14" descr="Untitled - 21"/>
          <p:cNvPicPr/>
          <p:nvPr/>
        </p:nvPicPr>
        <p:blipFill>
          <a:blip r:embed="rId2"/>
          <a:stretch/>
        </p:blipFill>
        <p:spPr>
          <a:xfrm>
            <a:off x="611280" y="2565360"/>
            <a:ext cx="3529080" cy="3889440"/>
          </a:xfrm>
          <a:prstGeom prst="rect">
            <a:avLst/>
          </a:prstGeom>
          <a:ln w="54000">
            <a:solidFill>
              <a:srgbClr val="b8e7ff"/>
            </a:solidFill>
            <a:miter/>
          </a:ln>
        </p:spPr>
      </p:pic>
      <p:pic>
        <p:nvPicPr>
          <p:cNvPr id="127" name="Picture 17" descr="vi_20"/>
          <p:cNvPicPr/>
          <p:nvPr/>
        </p:nvPicPr>
        <p:blipFill>
          <a:blip r:embed="rId3"/>
          <a:stretch/>
        </p:blipFill>
        <p:spPr>
          <a:xfrm>
            <a:off x="4429080" y="3500280"/>
            <a:ext cx="4345200" cy="2936880"/>
          </a:xfrm>
          <a:prstGeom prst="rect">
            <a:avLst/>
          </a:prstGeom>
          <a:ln w="54000">
            <a:solidFill>
              <a:srgbClr val="b8e7ff"/>
            </a:solidFill>
            <a:miter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9" name="Picture 6" descr="http://puteshestvieya.ru/wp-content/uploads/2012/03/Russia-Suzdal-MWAPL-House_of_Poor_Peasant-1.jpg"/>
          <p:cNvPicPr/>
          <p:nvPr/>
        </p:nvPicPr>
        <p:blipFill>
          <a:blip r:embed="rId1"/>
          <a:stretch/>
        </p:blipFill>
        <p:spPr>
          <a:xfrm>
            <a:off x="826920" y="476280"/>
            <a:ext cx="7561440" cy="5977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900000" y="46530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Monotype Corsiva"/>
              </a:rPr>
              <a:t>Печь была основой жизни, главным оберегом семьи, семейным очагом. «Печь краса – в доме чудеса!»</a:t>
            </a:r>
            <a:endParaRPr b="1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Picture 4" descr="Untitled - 9"/>
          <p:cNvPicPr/>
          <p:nvPr/>
        </p:nvPicPr>
        <p:blipFill>
          <a:blip r:embed="rId1"/>
          <a:stretch/>
        </p:blipFill>
        <p:spPr>
          <a:xfrm>
            <a:off x="900000" y="333360"/>
            <a:ext cx="7386840" cy="5040360"/>
          </a:xfrm>
          <a:prstGeom prst="rect">
            <a:avLst/>
          </a:prstGeom>
          <a:ln w="76320">
            <a:solidFill>
              <a:srgbClr val="b8e7ff"/>
            </a:solidFill>
            <a:round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Monotype Corsiva"/>
              </a:rPr>
              <a:t>Пол – земля; домотканые половики-дорожки, посланные в направлении от двери к передним окнам, - были образным выражением идеи пути-дороги.</a:t>
            </a:r>
            <a:endParaRPr b="1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4" name="Picture 4" descr="Untitled - 211"/>
          <p:cNvPicPr/>
          <p:nvPr/>
        </p:nvPicPr>
        <p:blipFill>
          <a:blip r:embed="rId1"/>
          <a:stretch/>
        </p:blipFill>
        <p:spPr>
          <a:xfrm>
            <a:off x="1403280" y="404640"/>
            <a:ext cx="6315120" cy="4788000"/>
          </a:xfrm>
          <a:prstGeom prst="rect">
            <a:avLst/>
          </a:prstGeom>
          <a:ln w="54000">
            <a:solidFill>
              <a:srgbClr val="b8e7ff"/>
            </a:solidFill>
            <a:miter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5"/>
          <p:cNvPicPr/>
          <p:nvPr/>
        </p:nvPicPr>
        <p:blipFill>
          <a:blip r:embed="rId1"/>
          <a:stretch/>
        </p:blipFill>
        <p:spPr>
          <a:xfrm>
            <a:off x="3780000" y="476280"/>
            <a:ext cx="4897440" cy="5905440"/>
          </a:xfrm>
          <a:prstGeom prst="rect">
            <a:avLst/>
          </a:prstGeom>
          <a:ln w="76320">
            <a:solidFill>
              <a:srgbClr val="b8e7ff"/>
            </a:solidFill>
            <a:bevel/>
          </a:ln>
        </p:spPr>
      </p:pic>
      <p:sp>
        <p:nvSpPr>
          <p:cNvPr id="136" name="Text Box 7"/>
          <p:cNvSpPr/>
          <p:nvPr/>
        </p:nvSpPr>
        <p:spPr>
          <a:xfrm>
            <a:off x="324000" y="2205000"/>
            <a:ext cx="345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Monotype Corsiva"/>
              </a:rPr>
              <a:t>Простая крестьянская изба, а сколько мудрости и смысла в себя она вобрала!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6912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Как строили дом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Что считалось самым главным в доме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8:58:37Z</dcterms:created>
  <dc:creator>3d_mod</dc:creator>
  <dc:description/>
  <dc:language>en-US</dc:language>
  <cp:lastModifiedBy>методист2</cp:lastModifiedBy>
  <dcterms:modified xsi:type="dcterms:W3CDTF">2014-05-21T00:34:01Z</dcterms:modified>
  <cp:revision>28</cp:revision>
  <dc:subject/>
  <dc:title>МОУ «Средняя общеобразовательная школа №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390000000000010250300207f7000400038000</vt:lpwstr>
  </property>
</Properties>
</file>